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0826-9032-43AC-941D-BBF31A343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EDEA-F5D0-4609-B7B5-997C3D7F8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5F3B-7639-454A-8896-158274578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D666-506D-4B2A-ADFE-71EE97866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33640-683B-4C7F-8232-FFB99BE58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E2342-E479-4E46-AEFF-99281F802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9C2E4-09B7-4886-9F15-4C7E2CA75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FFC74-1C3C-42EF-A589-AF12E78FB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44FEF-34BF-46C2-8ADD-AAF59E7E7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3297D-E246-4225-AD6C-AE513487E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A398C-B047-49BE-8971-C37DD2C73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28F6-7281-419D-A4C9-43161FAD5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C421A-2E83-49D9-957D-2B8D7D997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702F8-F503-4B83-9636-43B9863B9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6DBF5-D09E-473B-857C-A9F03F8E0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64F65-8285-4377-A2BE-81E6BBAC3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80078-0407-489B-BA9A-07E7AD8D5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1D19-4C84-4807-B2A1-448B36010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83A5-EBB5-4E6F-AE62-62DF426EE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88BE-1AD5-419D-B172-56FB52EB0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0027-0A1D-4508-A4E4-ECC05FC31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F732-7392-4221-9820-A7F02C35A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9D1B-1E94-429C-942A-E8551F5F4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E900-615C-4038-87E2-CA812710E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1440" y="-144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1150920" y="1676520"/>
            <a:ext cx="6697800" cy="123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5800" y="613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12164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12164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137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12164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12164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13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1216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507C6-8651-4A1A-9484-43B93EFF4004}" type="slidenum">
              <a:rPr b="0" lang="en-US" sz="14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-1440" y="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2133720" y="3124080"/>
            <a:ext cx="5459400" cy="1335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520" y="17524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1523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d2204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d2204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d2204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d2204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d220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18D9C-DF76-4C15-9F48-4A4C3E71CCD1}" type="slidenum">
              <a:rPr b="0" lang="en-US" sz="1400" spc="-1" strike="noStrike">
                <a:solidFill>
                  <a:srgbClr val="5d2204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search.ebscohost.com/login.aspx?direct=true&amp;db=ehh&amp;AN=45073947&amp;site=ehost-live" TargetMode="External"/><Relationship Id="rId2" Type="http://schemas.openxmlformats.org/officeDocument/2006/relationships/hyperlink" Target="http://search.ebscohost.com/login.aspx?direct=true&amp;db=ehh&amp;AN=45073947&amp;site=ehost-live" TargetMode="External"/><Relationship Id="rId3" Type="http://schemas.openxmlformats.org/officeDocument/2006/relationships/hyperlink" Target="http://search.ebscohost.com/login.aspx?direct=true&amp;db=ehh&amp;AN=45073947&amp;site=ehost-live" TargetMode="External"/><Relationship Id="rId4" Type="http://schemas.openxmlformats.org/officeDocument/2006/relationships/hyperlink" Target="http://search.ebscohost.com/login.aspx?direct=true&amp;db=ehh&amp;AN=45073947&amp;site=ehost-live" TargetMode="External"/><Relationship Id="rId5" Type="http://schemas.openxmlformats.org/officeDocument/2006/relationships/hyperlink" Target="http://search.ebscohost.com/login.aspx?direct=true&amp;db=ehh&amp;AN=45073947&amp;site=ehost-live" TargetMode="External"/><Relationship Id="rId6" Type="http://schemas.openxmlformats.org/officeDocument/2006/relationships/hyperlink" Target="http://search.ebscohost.com/login.aspx?direct=true&amp;db=ehh&amp;AN=45073947&amp;site=ehost-live" TargetMode="External"/><Relationship Id="rId7" Type="http://schemas.openxmlformats.org/officeDocument/2006/relationships/hyperlink" Target="http://search.ebscohost.com/login.aspx?direct=true&amp;db=ehh&amp;AN=45073947&amp;site=ehost-live" TargetMode="External"/><Relationship Id="rId8" Type="http://schemas.openxmlformats.org/officeDocument/2006/relationships/hyperlink" Target="http://search.ebscohost.com/login.aspx?direct=true&amp;db=ehh&amp;AN=45073947&amp;site=ehost-live" TargetMode="External"/><Relationship Id="rId9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Book Antiqua"/>
              </a:rPr>
              <a:t>Class Size and Its Effect on Academic Achievement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1" lang="en-US" sz="2400" spc="-1" strike="noStrike">
                <a:solidFill>
                  <a:srgbClr val="212164"/>
                </a:solidFill>
                <a:latin typeface="Book Antiqua"/>
              </a:rPr>
              <a:t>Maria O’Regan</a:t>
            </a:r>
            <a:br>
              <a:rPr sz="2400"/>
            </a:br>
            <a:r>
              <a:rPr b="1" lang="en-US" sz="2400" spc="-1" strike="noStrike">
                <a:solidFill>
                  <a:srgbClr val="212164"/>
                </a:solidFill>
                <a:latin typeface="Book Antiqua"/>
              </a:rPr>
              <a:t>Edu 7201, Fall 2011</a:t>
            </a:r>
            <a:endParaRPr b="1" lang="en-US" sz="2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3520" y="6858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Book Antiqua"/>
              </a:rPr>
              <a:t>Table of Contents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12164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Book Antiqua"/>
              </a:rPr>
              <a:t>Statement of Problem 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12164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Book Antiqua"/>
              </a:rPr>
              <a:t>Review of Literature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buClr>
                <a:srgbClr val="212164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212164"/>
                </a:solidFill>
                <a:latin typeface="Book Antiqua"/>
              </a:rPr>
              <a:t>Pros &amp; Cons</a:t>
            </a:r>
            <a:endParaRPr b="0" lang="en-US" sz="25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buClr>
                <a:srgbClr val="212164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212164"/>
                </a:solidFill>
                <a:latin typeface="Book Antiqua"/>
              </a:rPr>
              <a:t> </a:t>
            </a:r>
            <a:r>
              <a:rPr b="0" lang="en-US" sz="2500" spc="-1" strike="noStrike">
                <a:solidFill>
                  <a:srgbClr val="212164"/>
                </a:solidFill>
                <a:latin typeface="Book Antiqua"/>
              </a:rPr>
              <a:t>Solution to over-crowding</a:t>
            </a:r>
            <a:endParaRPr b="0" lang="en-US" sz="25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buClr>
                <a:srgbClr val="212164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212164"/>
                </a:solidFill>
                <a:latin typeface="Book Antiqua"/>
              </a:rPr>
              <a:t>Theorists</a:t>
            </a:r>
            <a:endParaRPr b="0" lang="en-US" sz="25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12164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Book Antiqua"/>
              </a:rPr>
              <a:t>Statement of Hypothesis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12164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Book Antiqua"/>
              </a:rPr>
              <a:t>References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Book Antiqua"/>
              </a:rPr>
              <a:t>Statement of the Problem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057400"/>
            <a:ext cx="807732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212164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Book Antiqua"/>
              </a:rPr>
              <a:t>The population of students in one classroom with one teacher is at an all time high. With overcrowded classrooms and only one teacher in the room, the ability for a teacher to individually help each student or a percentage of the class is difficult </a:t>
            </a:r>
            <a:r>
              <a:rPr b="0" lang="en-US" sz="1600" spc="-1" strike="noStrike">
                <a:solidFill>
                  <a:srgbClr val="212164"/>
                </a:solidFill>
                <a:latin typeface="Book Antiqua"/>
              </a:rPr>
              <a:t>(Blatchford, Bassett, Goldstein, &amp; Martin, 2003). </a:t>
            </a:r>
            <a:endParaRPr b="0" lang="en-US" sz="16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212164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Book Antiqua"/>
              </a:rPr>
              <a:t>It has been said that "Class size is one of the variables in American K-12 education that is thought to influence student learning </a:t>
            </a:r>
            <a:r>
              <a:rPr b="0" lang="en-US" sz="1600" spc="-1" strike="noStrike">
                <a:solidFill>
                  <a:srgbClr val="212164"/>
                </a:solidFill>
                <a:latin typeface="Book Antiqua"/>
              </a:rPr>
              <a:t>(Borland, Howsen, &amp; Trawick, 2005).</a:t>
            </a:r>
            <a:endParaRPr b="0" lang="en-US" sz="16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Book Antiqua"/>
              </a:rPr>
              <a:t>Review of Literature 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42670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212164"/>
                </a:solidFill>
                <a:uFillTx/>
                <a:latin typeface="Book Antiqua"/>
              </a:rPr>
              <a:t>Pros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212164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Book Antiqua"/>
              </a:rPr>
              <a:t>Students benefit more in later grades from being in small classes in early grades </a:t>
            </a:r>
            <a:r>
              <a:rPr b="0" lang="en-US" sz="1600" spc="-1" strike="noStrike">
                <a:solidFill>
                  <a:srgbClr val="212164"/>
                </a:solidFill>
                <a:latin typeface="Book Antiqua"/>
              </a:rPr>
              <a:t>(Konstantopoulos &amp; Chung, 2009) .</a:t>
            </a:r>
            <a:endParaRPr b="0" lang="en-US" sz="16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212164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Book Antiqua"/>
              </a:rPr>
              <a:t>Smaller class size allows for better teacher performance </a:t>
            </a:r>
            <a:r>
              <a:rPr b="0" lang="en-US" sz="1600" spc="-1" strike="noStrike">
                <a:solidFill>
                  <a:srgbClr val="212164"/>
                </a:solidFill>
                <a:latin typeface="Book Antiqua"/>
              </a:rPr>
              <a:t>(Chen &amp; Chen, 2009).</a:t>
            </a:r>
            <a:r>
              <a:rPr b="0" lang="en-US" sz="2000" spc="-1" strike="noStrike">
                <a:solidFill>
                  <a:srgbClr val="212164"/>
                </a:solidFill>
                <a:latin typeface="Book Antiqua"/>
              </a:rPr>
              <a:t> 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212164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Book Antiqua"/>
              </a:rPr>
              <a:t>Small classes allow for less disruption </a:t>
            </a:r>
            <a:r>
              <a:rPr b="0" lang="en-US" sz="1600" spc="-1" strike="noStrike">
                <a:solidFill>
                  <a:srgbClr val="212164"/>
                </a:solidFill>
                <a:latin typeface="Book Antiqua"/>
              </a:rPr>
              <a:t>(Batchford,Baines, Kutnick &amp; Martin, 2001).</a:t>
            </a:r>
            <a:r>
              <a:rPr b="0" lang="en-US" sz="2000" spc="-1" strike="noStrike">
                <a:solidFill>
                  <a:srgbClr val="212164"/>
                </a:solidFill>
                <a:latin typeface="Book Antiqua"/>
              </a:rPr>
              <a:t> 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00240" y="1294920"/>
            <a:ext cx="39625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212164"/>
                </a:solidFill>
                <a:uFillTx/>
                <a:latin typeface="Book Antiqua"/>
              </a:rPr>
              <a:t>Cons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buClr>
                <a:srgbClr val="212164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Book Antiqua"/>
              </a:rPr>
              <a:t>Less daily social interaction </a:t>
            </a:r>
            <a:r>
              <a:rPr b="0" lang="en-US" sz="1600" spc="-1" strike="noStrike">
                <a:solidFill>
                  <a:srgbClr val="212164"/>
                </a:solidFill>
                <a:latin typeface="Book Antiqua"/>
              </a:rPr>
              <a:t>(Pedder, 2006).</a:t>
            </a:r>
            <a:endParaRPr b="0" lang="en-US" sz="16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buClr>
                <a:srgbClr val="212164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Book Antiqua"/>
              </a:rPr>
              <a:t>More costly to have small classes </a:t>
            </a:r>
            <a:r>
              <a:rPr b="0" lang="en-US" sz="1600" spc="-1" strike="noStrike">
                <a:solidFill>
                  <a:srgbClr val="212164"/>
                </a:solidFill>
                <a:latin typeface="Book Antiqua"/>
              </a:rPr>
              <a:t>(Finn &amp; Achilles, 2003).</a:t>
            </a:r>
            <a:endParaRPr b="0" lang="en-US" sz="1600" spc="-1" strike="noStrike">
              <a:solidFill>
                <a:srgbClr val="212164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Book Antiqua"/>
              </a:rPr>
              <a:t>Review of Literature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212164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12164"/>
                </a:solidFill>
                <a:latin typeface="Book Antiqua"/>
              </a:rPr>
              <a:t>Solution to over crowding classroom: co-teaching, aide, assistant teacher (</a:t>
            </a:r>
            <a:r>
              <a:rPr b="0" lang="en-US" sz="1600" spc="-1" strike="noStrike">
                <a:solidFill>
                  <a:srgbClr val="212164"/>
                </a:solidFill>
                <a:latin typeface="Book Antiqua"/>
              </a:rPr>
              <a:t>Thomas, 1997).</a:t>
            </a:r>
            <a:r>
              <a:rPr b="0" lang="en-US" sz="1800" spc="-1" strike="noStrike">
                <a:solidFill>
                  <a:srgbClr val="212164"/>
                </a:solidFill>
                <a:latin typeface="Book Antiqua"/>
              </a:rPr>
              <a:t> </a:t>
            </a: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00"/>
              </a:spcBef>
              <a:buClr>
                <a:srgbClr val="212164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12164"/>
                </a:solidFill>
                <a:latin typeface="Book Antiqua"/>
              </a:rPr>
              <a:t>Careful analysis of the STAR (Student/Teacher Achievement Ratio) data has made it clear that an aide in the classroom has no positive impact on student achievement or behavior </a:t>
            </a:r>
            <a:r>
              <a:rPr b="0" lang="en-US" sz="1600" spc="-1" strike="noStrike">
                <a:solidFill>
                  <a:srgbClr val="212164"/>
                </a:solidFill>
                <a:latin typeface="Book Antiqua"/>
              </a:rPr>
              <a:t>(Finn &amp; Achilles, 2003).</a:t>
            </a:r>
            <a:endParaRPr b="0" lang="en-US" sz="1600" spc="-1" strike="noStrike">
              <a:solidFill>
                <a:srgbClr val="212164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212164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12164"/>
                </a:solidFill>
                <a:latin typeface="Book Antiqua"/>
              </a:rPr>
              <a:t>Small classes of 13 to 17 students had a positive impact on student achievement (relative to regular-sized classes of 22 to 26 students) </a:t>
            </a:r>
            <a:r>
              <a:rPr b="0" lang="en-US" sz="1600" spc="-1" strike="noStrike">
                <a:solidFill>
                  <a:srgbClr val="212164"/>
                </a:solidFill>
                <a:latin typeface="Book Antiqua"/>
              </a:rPr>
              <a:t>(Finn &amp; Achilles, 2003).</a:t>
            </a:r>
            <a:r>
              <a:rPr b="0" lang="en-US" sz="1800" spc="-1" strike="noStrike">
                <a:solidFill>
                  <a:srgbClr val="212164"/>
                </a:solidFill>
                <a:latin typeface="Book Antiqua"/>
              </a:rPr>
              <a:t> </a:t>
            </a: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00"/>
              </a:spcBef>
              <a:buClr>
                <a:srgbClr val="212164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12164"/>
                </a:solidFill>
                <a:latin typeface="Book Antiqua"/>
              </a:rPr>
              <a:t>Small classes led to statistically significant improvements in reading and mathematics, and benefits were greatest for students who started in small classes early(full-day kindergarten or first grade) </a:t>
            </a:r>
            <a:r>
              <a:rPr b="0" lang="en-US" sz="1600" spc="-1" strike="noStrike">
                <a:solidFill>
                  <a:srgbClr val="212164"/>
                </a:solidFill>
                <a:latin typeface="Book Antiqua"/>
              </a:rPr>
              <a:t>(Finn &amp; Achilles, 2003).</a:t>
            </a:r>
            <a:endParaRPr b="0" lang="en-US" sz="16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70776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12164"/>
                </a:solidFill>
                <a:latin typeface="Book Antiqua"/>
              </a:rPr>
              <a:t>Review of Literature </a:t>
            </a:r>
            <a:endParaRPr b="1" lang="en-US" sz="4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212164"/>
                </a:solidFill>
                <a:uFillTx/>
                <a:latin typeface="Book Antiqua"/>
              </a:rPr>
              <a:t>Theorists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12164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Book Antiqua"/>
              </a:rPr>
              <a:t>Edward Lazear argues that students who attend a smaller class learn more because they experience fewer student disruptions during class time, on average </a:t>
            </a:r>
            <a:r>
              <a:rPr b="0" lang="en-US" sz="1800" spc="-1" strike="noStrike">
                <a:solidFill>
                  <a:srgbClr val="212164"/>
                </a:solidFill>
                <a:latin typeface="Book Antiqua"/>
              </a:rPr>
              <a:t>(Krueger &amp; Hanushek, 2000).</a:t>
            </a: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12164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Book Antiqua"/>
              </a:rPr>
              <a:t>Vygotsky argued that increased social interaction is directly related to increased cognitive development </a:t>
            </a:r>
            <a:r>
              <a:rPr b="0" lang="en-US" sz="1800" spc="-1" strike="noStrike">
                <a:solidFill>
                  <a:srgbClr val="212164"/>
                </a:solidFill>
                <a:latin typeface="Book Antiqua"/>
              </a:rPr>
              <a:t>(McLeod,2007).</a:t>
            </a: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Book Antiqua"/>
              </a:rPr>
              <a:t>Hypothesis(ses)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212164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Book Antiqua"/>
              </a:rPr>
              <a:t>HR 1: To teach one unit on math content and one unit on language arts by content one teacher to seven Pre-Kindergarten students from PS X in Brooklyn, NY over a six week period, three times a week for 45 minute sessions, will increase their overall content knowledge in math and language arts as measured by a math and language arts test.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212164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Book Antiqua"/>
              </a:rPr>
              <a:t>HR2: To teach one unit on math content and one unit on language arts content by two teachers to twenty-one Pre-Kindergarten students from PS X in Brooklyn, NY over a six week period, three times a week for 45 minute sessions, will decrease their overall content knowledge in math and language arts as measured by a math and language arts test.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520" y="457200"/>
            <a:ext cx="8077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Book Antiqua"/>
              </a:rPr>
              <a:t>References 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12164"/>
                </a:solidFill>
                <a:latin typeface="Book Antiqua"/>
              </a:rPr>
              <a:t>Akyüz, G., &amp; Berbero</a:t>
            </a:r>
            <a:r>
              <a:rPr b="0" lang="en-US" sz="1200" spc="-1" strike="noStrike">
                <a:solidFill>
                  <a:srgbClr val="212164"/>
                </a:solidFill>
                <a:latin typeface="Lucida Grande"/>
              </a:rPr>
              <a:t>ğ</a:t>
            </a:r>
            <a:r>
              <a:rPr b="0" lang="en-US" sz="1200" spc="-1" strike="noStrike">
                <a:solidFill>
                  <a:srgbClr val="212164"/>
                </a:solidFill>
                <a:latin typeface="Book Antiqua"/>
              </a:rPr>
              <a:t>lu, G. (2010). Teacher and classroom characteristics and their relations to mathematics achievement of the students in the TIMSS.</a:t>
            </a:r>
            <a:r>
              <a:rPr b="0" i="1" lang="en-US" sz="1200" spc="-1" strike="noStrike">
                <a:solidFill>
                  <a:srgbClr val="212164"/>
                </a:solidFill>
                <a:latin typeface="Book Antiqua"/>
              </a:rPr>
              <a:t> New Horizons in Education, 58</a:t>
            </a:r>
            <a:r>
              <a:rPr b="0" lang="en-US" sz="1200" spc="-1" strike="noStrike">
                <a:solidFill>
                  <a:srgbClr val="212164"/>
                </a:solidFill>
                <a:latin typeface="Book Antiqua"/>
              </a:rPr>
              <a:t>(1), 77-95. Retrieved from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Book Antiqua"/>
              </a:rPr>
              <a:t>http://search.ebscohost.com/login.aspx?direct=true&amp;db=ehh&amp;AN=51301327&amp;site=ehost-live</a:t>
            </a:r>
            <a:endParaRPr b="0" lang="en-US" sz="1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12164"/>
                </a:solidFill>
                <a:latin typeface="Book Antiqua"/>
              </a:rPr>
              <a:t>Batchford, P., Baines, E., Kutnick, P., &amp; Martin, C. (2001). Classroom contexts: Connections between class size and within class grouping.</a:t>
            </a:r>
            <a:r>
              <a:rPr b="0" i="1" lang="en-US" sz="1200" spc="-1" strike="noStrike">
                <a:solidFill>
                  <a:srgbClr val="212164"/>
                </a:solidFill>
                <a:latin typeface="Book Antiqua"/>
              </a:rPr>
              <a:t> British Journal of Educational Psychology, 71</a:t>
            </a:r>
            <a:r>
              <a:rPr b="0" lang="en-US" sz="1200" spc="-1" strike="noStrike">
                <a:solidFill>
                  <a:srgbClr val="212164"/>
                </a:solidFill>
                <a:latin typeface="Book Antiqua"/>
              </a:rPr>
              <a:t>(2), 283. Retrieved from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Book Antiqua"/>
              </a:rPr>
              <a:t>http://search.ebscohost.com/login.aspx?direct=true&amp;db=ehh&amp;AN=7258387&amp;site=ehost-live</a:t>
            </a:r>
            <a:r>
              <a:rPr b="0" lang="en-US" sz="1200" spc="-1" strike="noStrike">
                <a:solidFill>
                  <a:srgbClr val="212164"/>
                </a:solidFill>
                <a:latin typeface="Book Antiqua"/>
              </a:rPr>
              <a:t> </a:t>
            </a:r>
            <a:endParaRPr b="0" lang="en-US" sz="1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12164"/>
                </a:solidFill>
                <a:latin typeface="Book Antiqua"/>
              </a:rPr>
              <a:t>Blatchford, P., Bassett, P., Goldstein, H., &amp; Martin, C. (2003). Are class size differences related to pupils' educational progress and classroom processes? findings from the institute of education class size study of children aged 5-7 years.</a:t>
            </a:r>
            <a:r>
              <a:rPr b="0" i="1" lang="en-US" sz="1200" spc="-1" strike="noStrike">
                <a:solidFill>
                  <a:srgbClr val="212164"/>
                </a:solidFill>
                <a:latin typeface="Book Antiqua"/>
              </a:rPr>
              <a:t> British Educational Research Journal, 29</a:t>
            </a:r>
            <a:r>
              <a:rPr b="0" lang="en-US" sz="1200" spc="-1" strike="noStrike">
                <a:solidFill>
                  <a:srgbClr val="212164"/>
                </a:solidFill>
                <a:latin typeface="Book Antiqua"/>
              </a:rPr>
              <a:t>(5), 709. Retrieved from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Book Antiqua"/>
              </a:rPr>
              <a:t>http://search.ebscohost.com/login.aspx?direct=true&amp;db=ehh&amp;AN=11184894&amp;site=ehost-live</a:t>
            </a:r>
            <a:r>
              <a:rPr b="0" lang="en-US" sz="1200" spc="-1" strike="noStrike">
                <a:solidFill>
                  <a:srgbClr val="212164"/>
                </a:solidFill>
                <a:latin typeface="Book Antiqua"/>
              </a:rPr>
              <a:t> </a:t>
            </a:r>
            <a:endParaRPr b="0" lang="en-US" sz="1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12164"/>
                </a:solidFill>
                <a:latin typeface="Book Antiqua"/>
              </a:rPr>
              <a:t>Borland, M. V., Howsen, R. M., &amp; Trawick, M. W. (2005). An investigation of the effect of class size on student academic achievement.</a:t>
            </a:r>
            <a:r>
              <a:rPr b="0" i="1" lang="en-US" sz="1200" spc="-1" strike="noStrike">
                <a:solidFill>
                  <a:srgbClr val="212164"/>
                </a:solidFill>
                <a:latin typeface="Book Antiqua"/>
              </a:rPr>
              <a:t> Education Economics, 13</a:t>
            </a:r>
            <a:r>
              <a:rPr b="0" lang="en-US" sz="1200" spc="-1" strike="noStrike">
                <a:solidFill>
                  <a:srgbClr val="212164"/>
                </a:solidFill>
                <a:latin typeface="Book Antiqua"/>
              </a:rPr>
              <a:t>(1), 73-83. doi:10.1080/0964529042000325216</a:t>
            </a:r>
            <a:endParaRPr b="0" lang="en-US" sz="1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12164"/>
                </a:solidFill>
                <a:latin typeface="Book Antiqua"/>
              </a:rPr>
              <a:t>Chen, W., &amp; Chen, W. (2010). Surprises learned from course evaluations. </a:t>
            </a:r>
            <a:r>
              <a:rPr b="0" i="1" lang="en-US" sz="1200" spc="-1" strike="noStrike">
                <a:solidFill>
                  <a:srgbClr val="212164"/>
                </a:solidFill>
                <a:latin typeface="Book Antiqua"/>
              </a:rPr>
              <a:t>Research in Higher Education Journal, 91</a:t>
            </a:r>
            <a:r>
              <a:rPr b="0" lang="en-US" sz="1200" spc="-1" strike="noStrike">
                <a:solidFill>
                  <a:srgbClr val="212164"/>
                </a:solidFill>
                <a:latin typeface="Book Antiqua"/>
              </a:rPr>
              <a:t>(9). Retrieved fromWei-Kian, C., &amp; Won-Sun, C. (2010). Surprises learned from course evaluations. Research in Higher Education Journal, 91-9. Retrieved from http://web.ebscohost.com.ez-proxy.brooklyn.cuny.edu:2048/ehost/detail?vid=7&amp;hid=24&amp;sid=6df39f1e-173f-464c-b34a-fc6da9d5ce63%40sessionmgr14&amp;bdata=JnNpdGU9ZWhvc3QtbGl2ZQ%3d%3d#db=ehh&amp;AN=57463899</a:t>
            </a:r>
            <a:endParaRPr b="0" lang="en-US" sz="1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12164"/>
                </a:solidFill>
                <a:latin typeface="Book Antiqua"/>
              </a:rPr>
              <a:t>Finn,  J., &amp; Achilles, C. (2003). Class Size: Counting Students Can Count. </a:t>
            </a:r>
            <a:r>
              <a:rPr b="0" i="1" lang="en-US" sz="1200" spc="-1" strike="noStrike">
                <a:solidFill>
                  <a:srgbClr val="212164"/>
                </a:solidFill>
                <a:latin typeface="Book Antiqua"/>
              </a:rPr>
              <a:t>American Education Research Asssociation, </a:t>
            </a:r>
            <a:r>
              <a:rPr b="0" lang="en-US" sz="1200" spc="-1" strike="noStrike">
                <a:solidFill>
                  <a:srgbClr val="212164"/>
                </a:solidFill>
                <a:latin typeface="Book Antiqua"/>
              </a:rPr>
              <a:t>1-4. Retrieved from www.aera.net/uploadedFiles/Journals_and...Points/RP_Fall03.pdf</a:t>
            </a:r>
            <a:endParaRPr b="0" lang="en-US" sz="1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00000" y="569520"/>
            <a:ext cx="734400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Book Antiqua"/>
              </a:rPr>
              <a:t>References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12164"/>
                </a:solidFill>
                <a:latin typeface="Book Antiqua"/>
              </a:rPr>
              <a:t>Funkhouser, E. (2009). The effect of kindergarten classroom size reduction on second grade student achievement: Evidence from california.</a:t>
            </a:r>
            <a:r>
              <a:rPr b="0" i="1" lang="en-US" sz="1200" spc="-1" strike="noStrike">
                <a:solidFill>
                  <a:srgbClr val="212164"/>
                </a:solidFill>
                <a:latin typeface="Book Antiqua"/>
              </a:rPr>
              <a:t> Economics of Education Review, 28</a:t>
            </a:r>
            <a:r>
              <a:rPr b="0" lang="en-US" sz="1200" spc="-1" strike="noStrike">
                <a:solidFill>
                  <a:srgbClr val="212164"/>
                </a:solidFill>
                <a:latin typeface="Book Antiqua"/>
              </a:rPr>
              <a:t>(3), 403-414. doi:10.1016/j.econedurev.2007.06.005 </a:t>
            </a:r>
            <a:endParaRPr b="0" lang="en-US" sz="1200" spc="-1" strike="noStrike">
              <a:solidFill>
                <a:srgbClr val="212164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12164"/>
                </a:solidFill>
                <a:latin typeface="Book Antiqua"/>
              </a:rPr>
              <a:t>Konstantopoulos, S., &amp; Chung, V. (2009). What are the long-term effects of small classes on the achievement gap? evidence from the lasting benefits study.</a:t>
            </a:r>
            <a:r>
              <a:rPr b="0" i="1" lang="en-US" sz="1200" spc="-1" strike="noStrike">
                <a:solidFill>
                  <a:srgbClr val="212164"/>
                </a:solidFill>
                <a:latin typeface="Book Antiqua"/>
              </a:rPr>
              <a:t> American Journal of Education, 116</a:t>
            </a:r>
            <a:r>
              <a:rPr b="0" lang="en-US" sz="1200" spc="-1" strike="noStrike">
                <a:solidFill>
                  <a:srgbClr val="212164"/>
                </a:solidFill>
                <a:latin typeface="Book Antiqua"/>
              </a:rPr>
              <a:t>(1), 125-154. Retrieved from </a:t>
            </a:r>
            <a:r>
              <a:rPr b="0" lang="en-US" sz="1200" spc="-1" strike="noStrike" u="sng">
                <a:solidFill>
                  <a:srgbClr val="995421"/>
                </a:solidFill>
                <a:uFillTx/>
                <a:latin typeface="Book Antiqua"/>
                <a:hlinkClick r:id="rId1"/>
              </a:rPr>
              <a:t>http://search.</a:t>
            </a:r>
            <a:r>
              <a:rPr b="0" lang="en-US" sz="1200" spc="-1" strike="noStrike" u="sng">
                <a:solidFill>
                  <a:srgbClr val="995421"/>
                </a:solidFill>
                <a:uFillTx/>
                <a:latin typeface="Book Antiqua"/>
                <a:hlinkClick r:id="rId2"/>
              </a:rPr>
              <a:t>ebscohost</a:t>
            </a:r>
            <a:r>
              <a:rPr b="0" lang="en-US" sz="1200" spc="-1" strike="noStrike" u="sng">
                <a:solidFill>
                  <a:srgbClr val="995421"/>
                </a:solidFill>
                <a:uFillTx/>
                <a:latin typeface="Book Antiqua"/>
                <a:hlinkClick r:id="rId3"/>
              </a:rPr>
              <a:t>.com/login.</a:t>
            </a:r>
            <a:r>
              <a:rPr b="0" lang="en-US" sz="1200" spc="-1" strike="noStrike" u="sng">
                <a:solidFill>
                  <a:srgbClr val="995421"/>
                </a:solidFill>
                <a:uFillTx/>
                <a:latin typeface="Book Antiqua"/>
                <a:hlinkClick r:id="rId4"/>
              </a:rPr>
              <a:t>aspx</a:t>
            </a:r>
            <a:r>
              <a:rPr b="0" lang="en-US" sz="1200" spc="-1" strike="noStrike" u="sng">
                <a:solidFill>
                  <a:srgbClr val="995421"/>
                </a:solidFill>
                <a:uFillTx/>
                <a:latin typeface="Book Antiqua"/>
                <a:hlinkClick r:id="rId5"/>
              </a:rPr>
              <a:t>?direct=true&amp;</a:t>
            </a:r>
            <a:r>
              <a:rPr b="0" lang="en-US" sz="1200" spc="-1" strike="noStrike" u="sng">
                <a:solidFill>
                  <a:srgbClr val="995421"/>
                </a:solidFill>
                <a:uFillTx/>
                <a:latin typeface="Book Antiqua"/>
                <a:hlinkClick r:id="rId6"/>
              </a:rPr>
              <a:t>db=ehh</a:t>
            </a:r>
            <a:r>
              <a:rPr b="0" lang="en-US" sz="1200" spc="-1" strike="noStrike" u="sng">
                <a:solidFill>
                  <a:srgbClr val="995421"/>
                </a:solidFill>
                <a:uFillTx/>
                <a:latin typeface="Book Antiqua"/>
                <a:hlinkClick r:id="rId7"/>
              </a:rPr>
              <a:t>&amp;AN=45073947&amp;</a:t>
            </a:r>
            <a:r>
              <a:rPr b="0" lang="en-US" sz="1200" spc="-1" strike="noStrike" u="sng">
                <a:solidFill>
                  <a:srgbClr val="995421"/>
                </a:solidFill>
                <a:uFillTx/>
                <a:latin typeface="Book Antiqua"/>
                <a:hlinkClick r:id="rId8"/>
              </a:rPr>
              <a:t>site=ehost-live</a:t>
            </a:r>
            <a:r>
              <a:rPr b="0" lang="en-US" sz="1200" spc="-1" strike="noStrike">
                <a:solidFill>
                  <a:srgbClr val="212164"/>
                </a:solidFill>
                <a:latin typeface="Book Antiqua"/>
              </a:rPr>
              <a:t> </a:t>
            </a:r>
            <a:endParaRPr b="0" lang="en-US" sz="1200" spc="-1" strike="noStrike">
              <a:solidFill>
                <a:srgbClr val="212164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12164"/>
                </a:solidFill>
                <a:latin typeface="Book Antiqua"/>
              </a:rPr>
              <a:t>Krueger, A. &amp; Hanushek, E. (2000). THE CLASS SIZE POLICY DEBATE .</a:t>
            </a:r>
            <a:r>
              <a:rPr b="0" i="1" lang="en-US" sz="1200" spc="-1" strike="noStrike">
                <a:solidFill>
                  <a:srgbClr val="212164"/>
                </a:solidFill>
                <a:latin typeface="Book Antiqua"/>
              </a:rPr>
              <a:t>Economic Policy Institute</a:t>
            </a:r>
            <a:r>
              <a:rPr b="0" lang="en-US" sz="1200" spc="-1" strike="noStrike">
                <a:solidFill>
                  <a:srgbClr val="212164"/>
                </a:solidFill>
                <a:latin typeface="Book Antiqua"/>
              </a:rPr>
              <a:t>.</a:t>
            </a:r>
            <a:endParaRPr b="0" lang="en-US" sz="1200" spc="-1" strike="noStrike">
              <a:solidFill>
                <a:srgbClr val="212164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12164"/>
                </a:solidFill>
                <a:latin typeface="Book Antiqua"/>
              </a:rPr>
              <a:t>McLeod, S.(2007). Vygotsky. Psychology Academic Articles for Students, Simply Psychology. Retrieved from http://www.simplypsychology.org/vygotsky.html</a:t>
            </a:r>
            <a:endParaRPr b="0" lang="en-US" sz="1200" spc="-1" strike="noStrike">
              <a:solidFill>
                <a:srgbClr val="212164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12164"/>
                </a:solidFill>
                <a:latin typeface="Book Antiqua"/>
              </a:rPr>
              <a:t>Pedder, D. (2006). Are small classes better? understanding relationships between class size, classroom processes and pupils' learning.</a:t>
            </a:r>
            <a:r>
              <a:rPr b="0" i="1" lang="en-US" sz="1200" spc="-1" strike="noStrike">
                <a:solidFill>
                  <a:srgbClr val="212164"/>
                </a:solidFill>
                <a:latin typeface="Book Antiqua"/>
              </a:rPr>
              <a:t> Oxford Review of Education, 32</a:t>
            </a:r>
            <a:r>
              <a:rPr b="0" lang="en-US" sz="1200" spc="-1" strike="noStrike">
                <a:solidFill>
                  <a:srgbClr val="212164"/>
                </a:solidFill>
                <a:latin typeface="Book Antiqua"/>
              </a:rPr>
              <a:t>(2), 213-234. doi:10.1080/03054980600645396</a:t>
            </a:r>
            <a:r>
              <a:rPr b="0" lang="en-US" sz="2800" spc="-1" strike="noStrike">
                <a:solidFill>
                  <a:srgbClr val="212164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12164"/>
                </a:solidFill>
                <a:latin typeface="Book Antiqua"/>
              </a:rPr>
              <a:t>Sohn, K. (2010). A skeptic's guide to project STAR.</a:t>
            </a:r>
            <a:r>
              <a:rPr b="0" i="1" lang="en-US" sz="1200" spc="-1" strike="noStrike">
                <a:solidFill>
                  <a:srgbClr val="212164"/>
                </a:solidFill>
                <a:latin typeface="Book Antiqua"/>
              </a:rPr>
              <a:t> KEDI Journal of Educational Policy, 7</a:t>
            </a:r>
            <a:r>
              <a:rPr b="0" lang="en-US" sz="1200" spc="-1" strike="noStrike">
                <a:solidFill>
                  <a:srgbClr val="212164"/>
                </a:solidFill>
                <a:latin typeface="Book Antiqua"/>
              </a:rPr>
              <a:t>(2), 257-272. Retrieved from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Book Antiqua"/>
              </a:rPr>
              <a:t>http://search.ebscohost.com/login.aspx?direct=true&amp;db=ehh&amp;AN=57715544&amp;site=ehost-live</a:t>
            </a:r>
            <a:r>
              <a:rPr b="0" lang="en-US" sz="1200" spc="-1" strike="noStrike">
                <a:solidFill>
                  <a:srgbClr val="212164"/>
                </a:solidFill>
                <a:latin typeface="Book Antiqua"/>
              </a:rPr>
              <a:t> </a:t>
            </a:r>
            <a:endParaRPr b="0" lang="en-US" sz="1200" spc="-1" strike="noStrike">
              <a:solidFill>
                <a:srgbClr val="212164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12164"/>
                </a:solidFill>
                <a:latin typeface="Book Antiqua"/>
              </a:rPr>
              <a:t>Walther-Thomas, C. (1997). Co-Teaching Experiences: The Benefits and Problems that Teachers and Principals Report Over Time. </a:t>
            </a:r>
            <a:r>
              <a:rPr b="0" i="1" lang="en-US" sz="1200" spc="-1" strike="noStrike">
                <a:solidFill>
                  <a:srgbClr val="212164"/>
                </a:solidFill>
                <a:latin typeface="Book Antiqua"/>
              </a:rPr>
              <a:t>Journal of Learning Disabilities, 30</a:t>
            </a:r>
            <a:r>
              <a:rPr b="0" lang="en-US" sz="1200" spc="-1" strike="noStrike">
                <a:solidFill>
                  <a:srgbClr val="212164"/>
                </a:solidFill>
                <a:latin typeface="Book Antiqua"/>
              </a:rPr>
              <a:t>(4), 395-407. Retrieved from http://web.ebscohost.com.ez-proxy.brooklyn.cuny.edu:2048/ehost/detail?vid=3&amp;hid=24&amp;sid=6df39f1e-173f-464c-b34a-fc6da9d5ce63%40sessionmgr14&amp;bdata=JnNpdGU9ZWhvc3QtbGl2ZQ%3d%3d#db=ehh&amp;AN=9707134012</a:t>
            </a:r>
            <a:endParaRPr b="0" lang="en-US" sz="1200" spc="-1" strike="noStrike">
              <a:solidFill>
                <a:srgbClr val="212164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6T19:19:12Z</dcterms:created>
  <dc:creator>Office 2004 Test Drive User</dc:creator>
  <dc:description/>
  <dc:language>en-US</dc:language>
  <cp:lastModifiedBy>Office 2004 Test Drive User</cp:lastModifiedBy>
  <dcterms:modified xsi:type="dcterms:W3CDTF">2011-10-18T03:49:39Z</dcterms:modified>
  <cp:revision>4</cp:revision>
  <dc:subject/>
  <dc:title>Class Size and Its Effect on Academic Acheivement   Maria O’Regan Edu 7201, Fall 2011</dc:title>
</cp:coreProperties>
</file>